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449B-50AB-4FAF-8A1F-52FEE045D7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5900-3A0A-43F0-9634-03C7E79D2D3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F298-5199-40E6-9FED-68D50A166DC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9C3-7BF2-48E1-A35F-246C4BF90C8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33BE-DE16-4531-A6DA-6C293EF973C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01BE-0A75-4AAA-8274-7A0EBADE2FD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AA68-E538-4F18-B3D4-2E292C13C37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B089-5B66-4AC4-94F4-F618A654F44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D67B-F72F-419A-A89E-78E7BC5F79D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6CA1-5B1A-4472-AC1A-DA70A22E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E935-ED44-4A78-8F1A-D5F9EC07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573F-AF12-4B8F-87BB-5B6A7FF0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C935-FEF5-4CA9-A686-213EE98E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43F4-34AA-4FB4-8223-A409C9AC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65E2-9EA1-4746-B566-9A0DE850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55B2-76B7-4880-8976-0ED7674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E753-A328-4148-82B2-E44C422C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2E23-B009-46D5-9A8B-9D8AC003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F48F-93D4-4D0F-B797-36F075A1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B8CA-837C-489D-AF93-63E3C535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D797-4CCA-4FB7-82CC-F8CBC273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D69BE-CDB2-47D2-893C-F07EF127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E0A93-8740-4976-A909-885388E9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868B6-78AE-4FF2-9C18-1083F7C2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99EB4-1CB7-4F24-88E5-9F1E999B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D31D1-1EE0-45C8-9AA9-20384FF1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FDE1B-4810-4798-861F-0B6EDDE7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82223-6DD6-4164-9922-917459B9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E18E9-7F7C-4BC9-8B48-D41865B4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A16CE-0927-4BD8-9EFE-9476B3AC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1F38C-F673-482F-BABA-E30A8BB9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1D34E-6A23-49DC-B9E9-02AB0D7C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57193-294C-4625-AB65-05FCC98E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49BD4-E736-4F1B-9751-5E4E045F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55BA4-9BA4-4A42-80E4-F07F13F1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531CE-7BD3-49C5-A309-8776FD8D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05D64-98E5-4637-95DD-B8D81470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B7966-A3B1-4C9C-96BB-D2746B14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63B3C-8515-499E-968D-85FB39D5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36E53-9C6A-4A29-AD18-81FABED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E3CD0-29E0-4249-9AC8-A8D22DF6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AC4BE-119E-49B5-B529-DA80A64A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B4B8F-DAED-450D-875E-2B84E467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D8306-E0F1-4BE8-A4D8-7F4F443F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D8F59-4C94-448D-8EFB-ED581EC9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C1AC-3DD6-4E17-B6F3-BEBAA75C64C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C3D0-A9DD-4B92-A689-81860F8CE26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A01D-34D7-4047-B35E-10D31C5A4194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E37A-30BD-4EE0-B7E9-F7DE270D3AB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26A9-EA56-4CFC-8530-F30C32FB2F6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D088-AFA4-443D-A8E1-A1F2DC96C97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3F0D-DE83-4384-BC2C-A4946853391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301E-0107-4BAF-A58F-32A8BF61109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38BA-94CD-4D3A-8D0A-D4FAA6B73A2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2C56-FF0C-4C9A-9E34-E13DD588EA2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66B4-932E-4078-9FF6-4434B8B087A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7E35-D5A4-45F8-BADE-4B1FB45AE7B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9.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상이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285120" y="1765080"/>
                <a:ext cx="864432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20000" cy="6000840"/>
            <a:chOff x="142920" y="214200"/>
            <a:chExt cx="882000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20000" cy="4429440"/>
              <a:chOff x="142920" y="1785600"/>
              <a:chExt cx="882000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00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1524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R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경험하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81080" y="142920"/>
            <a:ext cx="8820000" cy="6215040"/>
            <a:chOff x="181080" y="142920"/>
            <a:chExt cx="8820000" cy="6215040"/>
          </a:xfrm>
        </p:grpSpPr>
        <p:sp>
          <p:nvSpPr>
            <p:cNvPr id="816" name="AutoShape 2"/>
            <p:cNvSpPr/>
            <p:nvPr/>
          </p:nvSpPr>
          <p:spPr>
            <a:xfrm>
              <a:off x="181080" y="714240"/>
              <a:ext cx="8820000" cy="564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250920" y="908640"/>
              <a:ext cx="871380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화와 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terminal drop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기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Clr>
                  <a:srgbClr val="1d528d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가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은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.8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인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를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03960"/>
            <a:chOff x="108000" y="142920"/>
            <a:chExt cx="9288360" cy="6303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85716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7646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85000"/>
              <a:ext cx="8893080" cy="4961880"/>
              <a:chOff x="108000" y="1485000"/>
              <a:chExt cx="8893080" cy="496188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845000"/>
                <a:ext cx="8893080" cy="4601880"/>
                <a:chOff x="108000" y="1845000"/>
                <a:chExt cx="8893080" cy="460188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7000"/>
                  <a:ext cx="8819640" cy="452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84500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관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85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존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48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215040"/>
            <a:chOff x="285840" y="0"/>
            <a:chExt cx="8858160" cy="621504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5929560"/>
              <a:chOff x="285840" y="285480"/>
              <a:chExt cx="8643960" cy="592956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16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329840"/>
                <a:ext cx="8504640" cy="46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非可逆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786280"/>
            <a:chOff x="142920" y="428760"/>
            <a:chExt cx="8858160" cy="578628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43400"/>
              <a:chOff x="180720" y="1871640"/>
              <a:chExt cx="8820360" cy="434340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37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고 탄력약화 → 관절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 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7016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000840"/>
            <a:chOff x="181080" y="142920"/>
            <a:chExt cx="8820000" cy="600084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714240"/>
              <a:ext cx="8820000" cy="5429520"/>
              <a:chOff x="181080" y="714240"/>
              <a:chExt cx="8820000" cy="542952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714240"/>
                <a:ext cx="8820000" cy="5429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836280"/>
                <a:ext cx="8643960" cy="50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감소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갑상선질환 증가하나 대부분 정상기능 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교 및 생식기능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1:27:11Z</dcterms:modified>
  <cp:revision>21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